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5804-3CB6-4E1B-BBC7-1240AB7FD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81F2-A4DC-4D30-9DAC-8C14FB70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888E-4305-4353-906E-BC2560A95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7DBF-3E79-4043-9F7F-681A62003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57DD-8E73-4811-81A4-3D4FB70C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FD9E-2A84-4313-B7DE-A8E27095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418E-7615-4D42-82FB-38F81442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C5F7-90FA-4AF4-9D5D-B52D4F56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573E-392F-426F-8423-C76B2A9D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1AE7-7F55-4253-854B-F47CF8D5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D588-3444-4498-A612-8BF2DA20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AF1D-5AD3-4B74-A6EB-BDD6B3D9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2A23-AD9E-4C82-80F3-0548248CA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2556000" y="3888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Engenharia Civ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0000"/>
                </a:solidFill>
                <a:latin typeface="Bookman Old Style"/>
              </a:rPr>
              <a:t>Prospecção do Subsol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1332000" y="391788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Mecânica dos Solos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163044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R 6484. A sondagem consiste essencialmente em dois tipos de operação: Perfuração e Amostrag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02708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ondagens de Simples Reconhec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2708280"/>
            <a:ext cx="8569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uração acima do nível de águ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ação do nível de águ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uração abaixo do nível de águ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859280" y="2708280"/>
            <a:ext cx="4033800" cy="4011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179280" y="5157720"/>
            <a:ext cx="6610320" cy="12477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2195640" y="6524640"/>
            <a:ext cx="4608360" cy="0"/>
          </a:xfrm>
          <a:prstGeom prst="line">
            <a:avLst/>
          </a:prstGeom>
          <a:ln w="19080">
            <a:solidFill>
              <a:srgbClr val="9933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rospecção do subso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1052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sistência à penetração – SPT – NBR 7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79064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Resistência à penetração é referida como o número N do SPT ou SPT do solo, sendo SPT as iniciais de “Standart Penetration Test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77720" y="2852640"/>
          <a:ext cx="3733920" cy="2465640"/>
        </p:xfrm>
        <a:graphic>
          <a:graphicData uri="http://schemas.openxmlformats.org/drawingml/2006/table">
            <a:tbl>
              <a:tblPr/>
              <a:tblGrid>
                <a:gridCol w="1454400"/>
                <a:gridCol w="22795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do S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cida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 are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a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ito fof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a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f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a 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cidade mé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a 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c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ima de 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ito compac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941720" y="2852640"/>
          <a:ext cx="3733920" cy="2465640"/>
        </p:xfrm>
        <a:graphic>
          <a:graphicData uri="http://schemas.openxmlformats.org/drawingml/2006/table">
            <a:tbl>
              <a:tblPr/>
              <a:tblGrid>
                <a:gridCol w="1454400"/>
                <a:gridCol w="22795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do S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stênc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 arg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ito m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a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a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stência mé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a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50920" y="57340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função da resistência a penetração, o estado do solo é classificado pela compacidade (areia), ou pela consistência (argila ou silte argilos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rospecção do subso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9810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sistência à penetração – SPT – NBR 7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6120000" cy="3771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80880" y="5616720"/>
            <a:ext cx="6135840" cy="1125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5364000" y="4951440"/>
            <a:ext cx="3600720" cy="3988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esentação dos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8000" y="5516640"/>
            <a:ext cx="395928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067280" y="5157360"/>
            <a:ext cx="144360" cy="35892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5157720"/>
            <a:ext cx="216000" cy="7192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427640" y="5516280"/>
            <a:ext cx="144360" cy="36036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5516640"/>
            <a:ext cx="395928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rospecção do subso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Jose Rojas</cp:lastModifiedBy>
  <dcterms:modified xsi:type="dcterms:W3CDTF">2008-12-27T15:51:49Z</dcterms:modified>
  <cp:revision>120</cp:revision>
  <dc:subject/>
  <dc:title>Slide 1</dc:title>
</cp:coreProperties>
</file>